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BCD-2008-4BE1-B294-ED3F34E5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15B-EF85-47A2-825B-CD71873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B8C8F-9637-4491-A233-45D2E6E1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55B12-8E7F-4857-93FA-9086E0F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212F8-D41A-40FA-9818-A6A35CB0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DEB82-AB4A-4055-BD16-408B70B5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20811-AD1B-4ED0-93BD-0573D67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983B4-02D6-4730-B14A-6B0014E8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54933-48F4-489B-B333-80DD7853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1A42B-3606-4E0C-A65A-D8953DB7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BEB5E-C8A3-49FE-894E-F6810CEA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86A95-6F1F-41FB-A923-D57729B9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42B-E418-46C7-B237-76EF3C51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DA52A-C79C-4E1C-A395-86D08BE6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C68A7-D056-4688-BE28-46DE8FC0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6462C-908F-416D-B7CD-6E1F1A4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23638-5194-4FD4-9848-B7B33CB9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63944-7423-4916-837C-BACF6576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60313-F204-47F9-83AF-CF5F77D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C0CD3-43CA-4761-B75A-6DA5C689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89963-7F18-40B3-B7B5-55335464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9FCFD-F266-432F-A91D-66553D77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35A52-9AFA-4320-93B3-694993FF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569-2D4C-45C4-BE44-12A062EC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B3F7F-B0F4-4FC4-9572-2332C355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EEED8-0868-4D5D-AFAB-017DAA8A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EE92D-C028-44E9-AFFE-F6DE239D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36BAF-BE19-4D97-A9E5-2ED72D1F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6AB5E-EB1B-420E-AB5C-F0FFA1B6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1281C-739B-472B-B5C4-8681AC05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7AB6-98F2-47A5-B04B-7F78088D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B723B-169F-4852-862C-7D87C17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77198-F0B4-4853-9F52-EA636C8D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AAA0C-2C14-4579-A048-91D90A2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F155-2672-4F3C-A087-FB01EF9F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2E38A-1530-4A96-8F20-D7965F14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061B9-2F0B-4FEF-B841-313DD1E7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6B3D1-2F89-4DCF-AAFE-E402B85F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8995B-DBCE-4F03-AFB1-1332E79A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61B8C-2BB2-4BD3-899B-0D98CE54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ADECE-C55C-4C9B-A439-82EDDAC9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8021D-C40E-4987-A5F4-77E68152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A40BB-B8A1-4808-A029-F918F1E2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E42DB-8A86-4B4F-BE46-BE12350E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F865A-AD14-47FB-836B-476ACA7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64CB-C2D7-4A4F-8803-9F654EE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B7C84-7F4C-43B0-A457-53AC01DA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E9A31-28D2-4D62-8755-530C980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C41A1-BAF3-4996-8441-E0C57F89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00B3C-D090-4064-B46A-42861293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78496-56DB-41E2-BC76-4D245058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3A72A-B4DB-4AEE-8D7D-14D01123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7FD87-9100-4ED6-8824-D1D44320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3C02D-F3C8-4BA0-A73A-AE5847B5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40D82-5F32-454F-ABE2-7AD05F7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1343A-310E-4867-A973-3DCBFEF8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815-AF7E-4907-81D0-B2914BB6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1C95A-8957-4997-B977-11C8A6D5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11975-779A-45B5-A298-65A4BE6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D7778-33E4-454D-8E68-0A6AD2F5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72117-A717-4126-838D-2029BFEF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CD806-2A07-412A-A5B8-60D21C5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141DC-7F92-4B66-B88E-46DEBFB6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9477A-4899-41EC-9FD0-5DBC80A2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5ABA4-D325-464A-A350-3C876F2B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89DE5-95AB-4FAA-81C7-8EA4819B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059A3-FB0C-409E-89F7-35A625CC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9BF9-8C41-47A8-9348-CB88490D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4236F-4241-4629-98A9-C881F9DC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3B767-A617-4D61-BEA4-109FD02E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364E5-7F96-4A4F-BD4E-3C0471BE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B7995-85A7-4D3E-8CEA-08BB57A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D5F32-77CF-4986-AB9D-0849BC0B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E42B8-03A8-45F8-A727-63585507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D70E3-516E-4FCA-A610-C67DA5A7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2DB31-69A9-4C7F-BA06-BAB47F54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FC79A-A807-4AC4-B6C1-07A1C425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4D442-867D-4D81-961D-E193ECB1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0A02-4BEE-4355-85D4-2D99079E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B3061-0D42-4474-8F56-61898BB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ED863-99B5-4074-AE28-E898D161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DBAA1-9025-41C3-B40B-4C4FFAE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4F834-2FC2-48D3-BFD9-172742E9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F3B91-7D7B-4E87-B5EE-C6404410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19CAC-4CAD-4300-8190-E208D96C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8C289-8B1E-4932-8488-522D5ACC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18FC6-D741-4F9F-93BD-2760DE09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F4529-BE2C-467F-936B-B9316BB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6190C-0984-47D8-81BB-4A5636CE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BBAB-7696-4BEE-ADBA-196956F3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8DE3B-DD80-4C60-A05C-3712B9FC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9E8CB-5902-4C58-9BFD-BF4B4C2D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5595F-DC00-4BED-AA85-7DFC5E08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1E0AD-875B-4CC7-BC6C-9DE9F782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12C68-E6BF-46BA-900D-280BF365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177BE-2A08-4C41-ACAB-71BB5B9E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712E2-478D-4028-AF46-443F4B27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1A9E6-604A-4AA7-BBD2-6E2F721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0FEBD-4274-4229-B682-909088E2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F7DA9-BC94-4A9D-B3B8-844F88E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F7D9-2DC3-4CF5-964B-979CB92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E1334-5828-499B-9C8B-CBD380F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46913-D575-4F80-9472-82E813AD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818D8-58B7-4E1A-A10E-25EE2E80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C1977-6F8E-4493-8A9E-B622BA40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DB155-5F19-4613-8176-BBC6405D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A142D-82D7-4D70-A6F5-1EAA8716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622FB-DC0E-4A59-9653-7B86313E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D5DD2-E640-4863-9314-C2F76193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FC32E-0BFD-4D04-B2E5-F49AE1F5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D5CB1-0312-4EC4-9DA3-7410156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BA6-FD2B-45C7-A053-13753FBF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E517-B061-4797-B293-E09BB4E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7E40B-0BCA-445E-8E4B-D3776A97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2A93A-15E8-444C-8660-8E7BA3E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EF2F3-F57B-4029-8598-91F90576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0C8A6-EFF2-4E65-AC8A-DB37B2D6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A3A22-9CA6-4C48-9EA2-EAAA4F69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820F2-70EE-4029-83B5-17D87B79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C4817-5A52-40AD-8429-B1AF0CD2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9D070-DF85-4B44-BF49-71365052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0A2D6-82EA-4B59-A37C-E324733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872B7-1A73-4985-A494-E2309DBF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5C0C-33FE-4091-9BFF-9136715E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4729E-836B-4EE3-9CCD-98D34E97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0523D-8FD4-46F3-A4CD-53ACE3A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F88EF-5EC1-497E-9D30-84CF7198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E0CAC-8586-40D5-80A9-9A97611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1ED8D-4DAA-4A00-8591-CBE2D17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58E63-65DA-45B0-AFBD-9F953F53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D5547-4F23-4696-960A-A6912D98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C8057-CB0F-48A1-9AA2-3E259FDF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0E958-6B56-4438-B4F6-4639176F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366C4-8758-4D9E-9809-5FC8FCF3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8CEB-33E0-4F5F-B8CD-BD384F7E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5B259-2752-4A77-93A3-01F5FFF9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1A5D1-E1DA-4D9B-B23F-B1C6EDD1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158D3-63B5-47E4-BCF9-524F0316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A45956-A5D7-4E90-A6C0-2ABC65C2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09228-29F3-4422-B2A1-8A6A6BF7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0E18C-FFD5-46F8-AF70-DCB6C43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FA23CB-7D02-4CD9-B12E-BEC19DFC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E8FFCD-5A16-4319-AAF6-15800F40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3EEF5-6FA6-43AC-91F2-58A3CD3B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21357-B620-4C6B-B7E8-A76D9002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40A-CDC8-472D-BE97-459CDB64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C16E0F-A13D-4F4A-8CC5-5BEBAF98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3B5F8E-6B0E-4BF3-A339-AF0FAC5A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3D479D-30F4-4DDC-9332-F6A66A51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45145-AB33-46C2-9F7F-61E861BE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34216-534C-475E-8495-39C23F6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BAA00-808A-4ED7-A9C4-D503FD49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DE39B-3C9E-410A-8DEE-5D54EB5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302889-06B1-4C6F-90EC-402589F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A16D4E-2A0A-4E48-8A03-B08E9491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08D42-9FF5-4665-B2A3-4E1549B5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D81A-CEBD-4932-9BF4-F9641EEF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E7245-7C18-4DCC-A77C-0F73E48D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BA1A3-C2D8-4E83-830A-7E3545FA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DE57B-9424-43EA-936C-F691E91C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453F86-1809-4095-8B6F-7E93EFDA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EE331A-0B1B-4482-BD52-57C013A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3D21E-E00A-4F50-8FF5-6E3DC627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FEEDC-862F-4014-BE1C-1272FC68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1B49C-3C76-4989-B18A-B973DEC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CFADB-B405-4CCD-AC68-00CC5C17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758822-5FBD-4176-AD7D-D85083C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586D-E033-43D5-A792-453E3355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57F26-48B7-41CA-B717-B127DEB7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8B3E1-9B73-4EAC-A8AC-B7C44377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597BBC-9B9F-4336-B84A-8925B807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04102-CCF5-41BB-9F04-9374AFAF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A2AAE3-0748-439B-8052-DBF7AF0E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5589E-F10E-4756-A024-4C7FAE2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6B5FF7-429A-4730-9364-D204BB54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606CC-991E-4C71-AC7A-E669762F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3C17E-6917-4989-97E8-ACFE8720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DE18FC-3899-49EB-8037-713F827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0DB5-CF91-49F9-A236-11DA4F08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99F597-7B9C-4470-99A3-612C45AD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A88BA6-438A-4B05-8A80-15F2012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BDF52-471F-450E-ACDA-4AB78BD9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0D42EC-8266-4E02-9D1D-39E9E5D3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FFC209-A27C-4934-9C5B-B4580214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39F9EF-336E-430A-823A-84870089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7ADCAA-CFA7-43E8-9414-8D106F9C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C1D516-FE51-45AB-B4DD-C90AD66E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937692-E4D9-461B-AE76-CAAA83FD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FC4E3C-BE45-49EC-91BC-86F5666D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82E2-882F-4F6D-BFBD-EF5C2004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850CFF-FC23-42FD-89B4-B4FBE29D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F2D54A-9AA5-4BD9-96AD-7086202F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CD6125-3672-4DC6-ABDB-482EFC4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B41B91-9FE4-4190-9729-F20304E2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7DABF1-8485-4D5A-AEB4-3353A02D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AA0344-5946-4462-9032-6C7C0859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11EFCC-60A2-4DD6-8243-1B0D5F6B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5996-B491-489E-904E-BBC5672B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BBA1-21AE-4044-A6B3-02FA259A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FC8-35B6-496A-A2F6-C0CB3C76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EFD6-F5B9-4B19-91ED-D6860355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58F9-C477-46F1-9C81-9AED0900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6CDA-4260-492A-B8B2-106BE15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232C-DC22-41A6-AC64-45E9CD50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5F60-594C-4627-B88D-867E88EA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DB15-09E3-4699-BF3D-06A68510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7F1C-73E3-466C-BE90-C9F8CA17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24FA-23A4-49FD-9A64-306B6399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047C-B54B-45EB-90CA-6079FEA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350B-C7DF-4BE2-ADF9-8EB85EDA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25B-16CA-425E-8D9C-A13B56AD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6A65A-D035-4AED-BFCB-6C8BB5C1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589F-1B29-44F7-8529-751E911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C25F-3E90-4D25-A0C1-7862191F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DD35-E0B6-4750-BABC-A0187DF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76C5-6801-4E39-8845-51089D0B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A3DD-1330-419B-94B4-8928CDF9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C2EE-6F79-420D-B2EA-46E0076C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BAF3-C208-4AFE-8FA4-53D05F73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EA59-9B0B-447D-882E-88615626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86E7C-487D-4496-A657-82EB5D37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CC5-7572-43F0-BADF-90EE1D3D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B6C7-6D6E-4ECD-93C2-657D2C5D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601E2-8131-466E-A26F-66D89C44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7E146-7AE1-4EC7-AC41-8D5200DA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752D6-9937-4445-8802-076C15A8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85C4-EB5C-481E-AC42-0F68EFF6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307F9-CFB1-44B3-A7F9-2432DD7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E72F-4B3F-4FDE-8A83-01C6835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D9F5-03E3-41A5-9A28-1F3F24D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98043-D115-4A54-A03E-8C3E41B7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29D6-8D2E-46B7-88CB-6CA1B0E0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AA8-9F62-4FC7-95F5-A6F6BB54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9A4C-E6CA-4F11-8A75-3ACE1991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1D546-89C5-4A6E-8526-16D43532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FE529-0D31-4574-B8A5-92333A8B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8AC4-6AEC-4BC4-AB51-8D2C2ABE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11B3-7E69-40A2-B0EE-6C529172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8F3BB-92F4-4459-831F-6B4E0DC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8654-0EA8-4D11-B600-3E6A83B7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C129-6B4A-4078-9092-234C36C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C272-CF94-49A4-A20E-16C4A6FE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11C84-C004-4A44-93B7-0A9C834F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249-4144-4848-AC4E-D14BBC54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2E0B-21A5-40B6-9E75-8FE78BF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8833A-DDB9-498A-985D-08EDBD54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BD22D-C898-4CB0-9852-DC379B78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F0787-602B-4DB9-B092-34DC8DE5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BC91-240B-4B89-A49D-E8637EE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4DA68-AAD1-4420-A7F7-F3751EB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CBF79-5D41-4E5A-BB0A-E58C6477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7FFB3-C6B4-4892-A51F-26D99284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54EDB-3A62-40B3-8996-F6EA6735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08586-28B5-4310-A421-95A15C0B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9A8-3674-4796-9D2C-F5454D2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9002-36CD-4F40-9804-96C05C29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EA17-869F-4CD7-91ED-3C6D5241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7F13D-8F81-453D-A2C6-55A3AD36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01AF5-F6E9-49ED-8755-4D649196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2608-FCB9-47DF-A3E7-CD627A16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C3033-F0B3-451D-9C07-FC77EEB2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C53D-2E32-41FD-A819-AF4FD140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F98BC-8408-4124-B44E-E07759E3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A0ED5-CE88-4C36-A627-B709834E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A5B38-88CD-4191-871E-56F746C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20D-21E4-42B2-AE19-DC3791E2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43CE6-FEC2-4ABF-8E7F-3B721503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33CB3-2D19-49AF-8EC6-0B923128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10EA4-9617-4B21-88A5-EF4F0D6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8A46A-660C-49D3-918F-8430E71B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EA716-8FE8-4028-947C-FFA5A3E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EACBE-5DD5-494E-853E-30031189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C47C4-FFC5-486B-8D93-855F7FEC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446E5-314C-41F7-907C-2A16BA58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C5886-AE7D-48D8-94B5-38CCC1C7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04931-B831-49B0-8588-00315B7A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B8A-F753-495F-8D15-9A5A6DF7EF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06EA-0F81-4123-8ECE-D0DDC33324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E914-7A69-4255-A159-3A654F72E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D01E-15A4-4133-8CCF-F063F5850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1279-E617-4001-902C-5080E324DF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C4CE-8A09-43D8-A6DD-E0C3FFBBC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2CB8-2057-44C8-97DD-E7116248F3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52DD-DD7C-4D55-BF8E-5C189EFE40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FC02-F086-49E3-9D32-C64EB9DAC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359C-0DC3-4535-994B-A6F8ADFC5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1B04-05DD-4EA2-A56F-6DE9E4526B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0CC0-219E-42F0-8DB6-3437CBAC47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E11A-4128-4D11-A2A3-5D01F04BF2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F66E-4739-427C-A230-6AF028C28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CB36-282B-46D8-85A7-F28E5D711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6525-7B18-4A1D-847C-C15140A037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0006-A6F4-46E2-B3CF-D6C742A92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68C8-EEFC-40C5-B0B9-D44A85BBA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B661-906F-4EAD-A857-8B928FB19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48BE-5230-40B0-87CB-B760CB0C2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DE9C-F501-4141-B480-818C02D93E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1BEA-A49F-44BA-BA0B-2691EF57A9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7A28-DAEE-43A4-8C0B-CFF62B9DDB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351-C927-4CC1-A5B9-E177D921C1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A6E8-81C4-440F-B9A3-77BBDC580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8E93-0FD7-458A-ADD5-52CB1ED99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1EAF-1C44-40AA-934C-9983200625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2325-A6E7-4C2B-A57A-76072E47B4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26C9-2799-4FAA-88E6-5883184745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CAD0-42B4-47E8-9493-EE1DC0D2F7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B8C7-FF86-4E3E-B978-FA849E2C78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567-143E-4FCB-A7BD-A121D06186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58A3-AC16-410D-82EC-1438397B70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9467-038B-47C1-AA5E-A75AD307B6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A3D5-33FC-4EA4-8E68-A97CE0EDD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8A70-A8E4-466F-AD33-174823EA0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F1F5-0C49-41C2-A4BA-ECED702BF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5D2-71EB-47F7-9439-C3B118FF9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B7FF-FA2B-4BA5-B921-D2F9F9699D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97C9-B3AF-44F6-9B76-194F806A8F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544B-D748-4939-A3C1-0822FA45C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F740-7332-4ADD-A161-49778F9EE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09800" y="3090960"/>
            <a:ext cx="53244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338040" y="2014560"/>
            <a:ext cx="8466120" cy="28288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46200" y="2421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352440" y="1697040"/>
            <a:ext cx="7684920" cy="158112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2" descr=""/>
          <p:cNvPicPr/>
          <p:nvPr/>
        </p:nvPicPr>
        <p:blipFill>
          <a:blip r:embed="rId2"/>
          <a:stretch/>
        </p:blipFill>
        <p:spPr>
          <a:xfrm>
            <a:off x="290520" y="3429000"/>
            <a:ext cx="8561520" cy="8002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800280" y="2224080"/>
            <a:ext cx="7543800" cy="24098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4859280" y="262728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3564000" y="303516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3276720" y="344808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1332000" y="3860640"/>
            <a:ext cx="1511280" cy="2937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1390680" y="4260960"/>
            <a:ext cx="108108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485640" y="1157400"/>
            <a:ext cx="8172720" cy="45432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1979640" y="2027160"/>
            <a:ext cx="2808360" cy="2937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2376720" cy="2937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1042920" y="3664080"/>
            <a:ext cx="792360" cy="2934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3419640" y="3673440"/>
            <a:ext cx="647640" cy="2937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1547640" y="4484520"/>
            <a:ext cx="2087640" cy="293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7451640" y="4498920"/>
            <a:ext cx="792360" cy="2937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900000" y="5300640"/>
            <a:ext cx="2087640" cy="2937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4859280" y="5310360"/>
            <a:ext cx="64764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85680" y="1166760"/>
            <a:ext cx="8972640" cy="45244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1332000" y="2008080"/>
            <a:ext cx="936360" cy="293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4427640" y="1998720"/>
            <a:ext cx="649080" cy="2937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1042920" y="283356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7812000" y="284328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1476360" y="3645000"/>
            <a:ext cx="719280" cy="2937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2771640" y="3645000"/>
            <a:ext cx="71928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3289320" y="4462560"/>
            <a:ext cx="244800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9"/>
          <a:stretch/>
        </p:blipFill>
        <p:spPr>
          <a:xfrm>
            <a:off x="2124000" y="5288040"/>
            <a:ext cx="719280" cy="2937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10"/>
          <a:stretch/>
        </p:blipFill>
        <p:spPr>
          <a:xfrm>
            <a:off x="5219640" y="5288040"/>
            <a:ext cx="8650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3:2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